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167F-D77D-415C-8786-2E04B55DA6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3D6-B0AF-4B79-9A4F-B19988EE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B5D-751F-4B2A-8B8C-B276320F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E95-C0E1-4689-ACF4-E492DFB2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50D-2240-4FF3-A67F-BD6F3FDB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80E-8CEC-4CE8-89FE-379879A4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F2D-2726-47BD-8425-E4933643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F8D-0D94-4C89-BB93-9324F493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D1E-CA18-4EA7-BE34-0AFD72B0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80E-77A1-4D94-A57B-1250E6F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692-2566-41EA-8DC2-C4D0D03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C3D-C5B6-4C23-968E-2874ECFB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2E7-ABA6-4BC7-ACB8-68FD899E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E619-59F8-4409-B742-753ABBE31A28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alt marsh"/>
          <p:cNvPicPr/>
          <p:nvPr/>
        </p:nvPicPr>
        <p:blipFill>
          <a:blip r:embed="rId1"/>
          <a:srcRect l="0" t="0" r="11539" b="11794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lt Marshes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biotic perspec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ia McGuire, Ph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rida Sea Grant Extension Ag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EXTBlue654OlineOnWhite"/>
          <p:cNvPicPr/>
          <p:nvPr/>
        </p:nvPicPr>
        <p:blipFill>
          <a:blip r:embed="rId2"/>
          <a:stretch/>
        </p:blipFill>
        <p:spPr>
          <a:xfrm>
            <a:off x="2971800" y="5181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ida Sea Grant-blue"/>
          <p:cNvPicPr/>
          <p:nvPr/>
        </p:nvPicPr>
        <p:blipFill>
          <a:blip r:embed="rId3"/>
          <a:stretch/>
        </p:blipFill>
        <p:spPr>
          <a:xfrm>
            <a:off x="4952880" y="5181480"/>
            <a:ext cx="1295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majority of commercially-important marine species rely on estuaries/salt marsh at some stage of lif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amples include blue crab, oysters, hard clams, shrimp, red drum, seatrout, sheepshead, bluefish, mull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salt marsh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rosion contro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ltr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logical term—amount of carbon produced per m² per unit tim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 kg (ash free dry weight)/m²/ye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ing factors include nutrients, l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lt marsh plants provide detritus for the estuarine food web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w grazers on blades (&lt; 10% of biomas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arge detrital biomass supports broad food web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ial salt marsh food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sh 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38280" y="480060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47920" y="5019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621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4100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447920" y="3800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1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9810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1447920" y="28195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1676520" y="281952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4114800" y="46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343400" y="472428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H="1" flipV="1">
            <a:off x="2514600" y="28195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4191120" y="2895120"/>
            <a:ext cx="2286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 flipH="1" flipV="1">
            <a:off x="2666880" y="2742840"/>
            <a:ext cx="28958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72200" y="563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9343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y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7238880" y="48765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6705360" y="365760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7543800" y="38095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H="1" flipV="1">
            <a:off x="502884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248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400800" y="2362320"/>
            <a:ext cx="1522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4419720" y="2362320"/>
            <a:ext cx="19047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V="1">
            <a:off x="2590920" y="2133720"/>
            <a:ext cx="3581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H="1" flipV="1">
            <a:off x="1676520" y="3809880"/>
            <a:ext cx="22096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2081160" y="3657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r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 flipH="1" flipV="1">
            <a:off x="3047760" y="4190760"/>
            <a:ext cx="9903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 flipH="1" flipV="1">
            <a:off x="2285640" y="289512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 flipV="1">
            <a:off x="2971800" y="2895120"/>
            <a:ext cx="12952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3276720" y="2285640"/>
            <a:ext cx="2971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4572000" y="358128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685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 flipH="1" flipV="1">
            <a:off x="1600200" y="2057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 flipH="1" flipV="1">
            <a:off x="4648320" y="441936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25909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 flipV="1">
            <a:off x="2437920" y="2895480"/>
            <a:ext cx="160020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ursery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eding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crohabita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eria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th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quat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essful environ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changes in temperature, salinity, water depth, dissolved oxyge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dim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salt mars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ommunity of emerged halophytic vegetation in areas alternately inundated and drained by tidal action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pansive inter- or supratidal areas occupied by rooted emergent vascular macrophytes and a variety of epiphytes and epifauna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52578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merg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ticking out of the water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alophy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alt-loving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Inund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flooded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acro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that’s large enough to se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growing on another organism but not a parasit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fau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nimal version of epiph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are salt marshe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long intertidal shore of estu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at, protected wat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tensive from Maine-Florida, along Gulf coast from Florida-Tex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FL, most abundant north of the freeze line (70% of state’s salt marsh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alt marsh commu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grass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ociated halophytic (salt-tolerant) pl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manent reside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isito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partina patens"/>
          <p:cNvPicPr/>
          <p:nvPr/>
        </p:nvPicPr>
        <p:blipFill>
          <a:blip r:embed="rId2"/>
          <a:srcRect l="14075" t="0" r="0" b="0"/>
          <a:stretch/>
        </p:blipFill>
        <p:spPr>
          <a:xfrm>
            <a:off x="5756400" y="1600200"/>
            <a:ext cx="3387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gr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alterniflor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ooth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Juncus roemerian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lack needle rus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ladium mariscoid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wamp saw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pate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lt meadow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ociated pl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succul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ceptions include salt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edible (saltwort, glasswort, sea purslan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m transitional zone between salt marsh and maritime hammo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" name="Picture 5" descr="Glasswort-red"/>
          <p:cNvPicPr/>
          <p:nvPr/>
        </p:nvPicPr>
        <p:blipFill>
          <a:blip r:embed="rId1"/>
          <a:stretch/>
        </p:blipFill>
        <p:spPr>
          <a:xfrm>
            <a:off x="6172200" y="20574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zo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tertidal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, Junc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 marsh (above mean high water)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Distichlis spicata, Batis maritim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alicorn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orrich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ued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nearis, Limonium carolinan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pper edge of high marsh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Iva frutescens, Baccharis halmifol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rsh-mangrove transition z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ddler crabs"/>
          <p:cNvPicPr/>
          <p:nvPr/>
        </p:nvPicPr>
        <p:blipFill>
          <a:blip r:embed="rId1"/>
          <a:srcRect l="42394" t="13769" r="22826" b="31886"/>
          <a:stretch/>
        </p:blipFill>
        <p:spPr>
          <a:xfrm>
            <a:off x="6095880" y="3124080"/>
            <a:ext cx="27957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ident anim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ttorina irrora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periwinkle (snai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ddler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Uc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Sesarm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eukensia demiss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bbed muss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" name="Picture 4" descr="Marsh periwinkle"/>
          <p:cNvPicPr/>
          <p:nvPr/>
        </p:nvPicPr>
        <p:blipFill>
          <a:blip r:embed="rId2"/>
          <a:srcRect l="10100" t="31253" r="6293" b="17504"/>
          <a:stretch/>
        </p:blipFill>
        <p:spPr>
          <a:xfrm>
            <a:off x="6400800" y="914400"/>
            <a:ext cx="2438280" cy="22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bbed mussel-NOAA"/>
          <p:cNvPicPr/>
          <p:nvPr/>
        </p:nvPicPr>
        <p:blipFill>
          <a:blip r:embed="rId3"/>
          <a:stretch/>
        </p:blipFill>
        <p:spPr>
          <a:xfrm>
            <a:off x="4267080" y="5257800"/>
            <a:ext cx="213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dal Marsh Visi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r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rim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amondback terrap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9:19Z</dcterms:created>
  <dc:creator>Maia P  McGUire</dc:creator>
  <dc:description/>
  <dc:language>en-US</dc:language>
  <cp:lastModifiedBy>RomaK</cp:lastModifiedBy>
  <dcterms:modified xsi:type="dcterms:W3CDTF">2015-09-04T09:45:03Z</dcterms:modified>
  <cp:revision>11</cp:revision>
  <dc:subject/>
  <dc:title>Salt Marshes -biotic perspectives</dc:title>
</cp:coreProperties>
</file>